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4E8-81BA-4E85-8663-5B84E085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000-1D8D-46A8-8B83-296808A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7A1-6924-485C-ABDF-68301CA9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FB7-16F0-4376-9C0B-8E31D095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3BD-15BD-488B-BBE6-AF8F3668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238-AD0D-4BBA-9729-1595B20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5378-1120-4BDC-B12A-17A60F3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53C-24BF-4E65-A10F-4ED83C5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FDE-527A-41B7-8CA7-69B9EA5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1B6-CC00-4E8D-965F-77B0BB1A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60B-8C96-45F6-B6F9-3140EBB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FCA-71C3-4F54-B49D-1079A96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AFD0-D548-40AB-8CD1-6DCBBF19E8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Calibri"/>
              </a:rPr>
              <a:t>Extract from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Prelu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illiam Words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f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inn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v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and del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mall b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cket; dense wood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aft, b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557000"/>
            <a:ext cx="2374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pic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lank verse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pet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557000"/>
            <a:ext cx="5770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g narrative poem traditionally recounting heroic explo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rhymed iambic pentameter, the main dramatic and narrative verse form in English poe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ing human qualities to describe  inanim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eated words, phrases or images that underpin the theme, emphasise the message or contribute to tone/m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6:17:37Z</dcterms:modified>
  <cp:revision>47</cp:revision>
  <dc:subject/>
  <dc:title>La Belle Dame Sans Merci</dc:title>
</cp:coreProperties>
</file>